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D4A-3C0E-4AA1-83B4-D9BCDA70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EF9-A04E-4097-BBBA-5A6F4E7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988-BAE7-4CD6-8ED1-A97A5C22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3E1-2EA4-4799-9739-F41CA815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2A5-2046-4285-9D14-17C7E8AF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BF9-BAAE-4EAD-B3E4-B916E4BA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21A-45FB-4C25-821E-36B343AF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A99-7A75-4A41-A3AF-514915D0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91C-2110-4BE1-8536-6C56D745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ACB-5DE0-4E4D-A937-724438D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756-FFEC-441B-B336-15903CF9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FDF-1DE5-4428-8D0F-ED09D67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E164-8CCA-437B-B0E5-A5F428A59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freeplaymusic.com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skateboard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525312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27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533520"/>
            <a:ext cx="74674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Edwardian Script ITC"/>
              </a:rPr>
              <a:t> </a:t>
            </a: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Edwardian Script ITC"/>
              </a:rPr>
              <a:t>Skateboard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914400" y="990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594360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;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unc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7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006600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Skateboard"/>
          <p:cNvPicPr/>
          <p:nvPr/>
        </p:nvPicPr>
        <p:blipFill>
          <a:blip r:embed="rId1"/>
          <a:stretch/>
        </p:blipFill>
        <p:spPr>
          <a:xfrm>
            <a:off x="2438280" y="1143000"/>
            <a:ext cx="449604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ate Bo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 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skateboa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6600cc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Invention: Skate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First two moves on a Skate Board were the 180 and the 36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180 is a half a circle, a 360 is a full s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Skate Boarding became a sport in the 1970s and the 198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he Skate Board is popular in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Sooner they made unbreakable Skate Bo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Again they upgraded the wheels on the Skate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People in America started to get good and then they made skate parks for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Inventor: Alan Ollie Gelf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dwardian Script ITC"/>
              </a:rPr>
              <a:t>Gelfand invented the skate board for America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dwardian Script ITC"/>
              </a:rPr>
              <a:t>Soon he spread them around America and people loved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dwardian Script ITC"/>
              </a:rPr>
              <a:t>Skate boards stop buying in the stores in the 1980s.</a:t>
            </a: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6Z</dcterms:created>
  <dc:creator>install</dc:creator>
  <dc:description/>
  <dc:language>en-US</dc:language>
  <cp:lastModifiedBy>install</cp:lastModifiedBy>
  <dcterms:modified xsi:type="dcterms:W3CDTF">2010-05-12T17:35:15Z</dcterms:modified>
  <cp:revision>9</cp:revision>
  <dc:subject/>
  <dc:title>Slide 1</dc:title>
</cp:coreProperties>
</file>